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100-232A-430C-BA40-3209FF5E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CB5-1D49-4ADB-99E7-19102462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E7B5-6A9D-42BC-84AE-048F3D3B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5CE-BB1E-49C5-8D2B-E0C8578DD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22A2F-F900-41C1-A0FF-64ADE253D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EAAE1E-5397-442D-9506-8A18C013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9B8908-5A6E-4153-801A-EEB0B43A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F7398-846E-45EE-A5ED-CA609A1F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D3B2F-99A1-43BF-944D-3AF113C2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DC00D5-6838-4905-8F12-5F328338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C4EF65-A9C4-4741-B014-0BDC28A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743-CB36-4CB8-B89D-9156AB2A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4DF6D-FF8A-4223-9E50-3A138AC0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E1B8D-19EF-46F5-9F51-A01408F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964F3-9C4D-4B37-B9E9-36554576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87B7C7-93E3-4F68-AB7E-066F314D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1F961-606B-42C8-830B-A4198A1B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AD20-8F71-4B33-84EF-EB58C350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547-4020-49E4-9321-8CDD8B39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386-22E6-46AD-A1E6-0219D5B1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5D2-B381-4A89-B525-5054E88B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035-D5B7-4548-B0DB-53955F0A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436-46EE-411D-8AA6-B1A2390D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78B-2145-453A-987E-8684BF4A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FD1E5-3287-4D65-B09B-0CF4F38AF8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E271-E3F0-479C-B832-A8CEE0B4C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FP 9.0 Member Dat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ke Stew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crosoft Corpor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ember Data XML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?xml version="1.0" encoding="Windows-1252" standalone="yes"?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VFPData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mberdata na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borderstyle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property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vori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True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r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alse"/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emberdata na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oobar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yp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property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ispl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ooBar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avorit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True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verrid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alse"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crip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"FooBarScript"/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/VFPData&g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perty Edito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FP will first search in the _MemberData property for reference to this property. The rules for MemberData inheritance are applied. If no valid property script can be found, no ellipses button is display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native properties, the user is responsible for returning the property data type required by that property otherwise an error will occu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a native property already has an editor (e.g., Color Picker for colors), it will be overridden that if another is specifi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ke a Builder, the custom Property Editor is responsible for setting the property value. It should use ASELOBJ() to get a reference to the selected object(s). It is recommended that Property Editors work similar to builders and hide the Property Sheet if not dock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vorit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ght-click menu in the property 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splay Format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erty Sheet tab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lliSense -- ListMembers dropdow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 editor procedures list (Methods on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cument View (Methods onl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0T18:04:08Z</dcterms:created>
  <dc:creator>Mike Stewart</dc:creator>
  <dc:description/>
  <dc:language>en-US</dc:language>
  <cp:lastModifiedBy>Mike Stewart</cp:lastModifiedBy>
  <dcterms:modified xsi:type="dcterms:W3CDTF">2004-08-10T18:13:01Z</dcterms:modified>
  <cp:revision>2</cp:revision>
  <dc:subject/>
  <dc:title>VFP 9.0 Member Data</dc:title>
</cp:coreProperties>
</file>